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25C-BC86-403E-8FE1-048916C4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2D3-BCC4-447C-9EDD-98D66C0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1F4-B6A1-4CE3-9602-09AA0F0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975-B479-4E2F-94E0-EBFE657D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FE8-8D25-45C9-9FFB-E81A68C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85B-9E02-49AF-86F8-FF83DC0C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707-A6AA-4E73-90E4-0E7CC89A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F43-B7FF-45B4-B64D-5619FAD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B6B-8D88-4F4B-94D1-AC66DCE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45A-FFEB-4D17-86E3-67549C4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DC0-1A0F-4493-9D4F-231548C9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156-8B13-474B-B58D-5D07AEF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9A2-7CF1-4824-B31D-F49AC53F2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549360"/>
            <a:ext cx="89362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местное решение равенств (1) и (2) относительно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да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сюда значения постоянный и производя вычисления, найдём боровский ради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16216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4336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равенства (1) получим выражение скорости электрона на этой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изводя вычисления по этой формуле, найд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14904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3976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энергию фотона, соответствующего второй линии в первой инфракрасной серии (серии Пашена)атома водоро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числить радиусы второй и третьей орбит атома 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напряжение, под которым работает рентгеновская трубка, если коротковолновая граница в спектре тормозного излучения оказалась равной 15,5 п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том состоит из положительно заряженного ядра и отрицательно заряженных электро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состав атомного ядра входят положительно заряженные протоны и нейтральные нейтро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аряд атома в нормальном состоянии равен нул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Число электронов в нейтральном атоме равно числу прото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том превращается в ион, если он приобретает или теряет один или несколько электронов электронной оболоч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оны бывают положительными, когда число электронов меньше числа протонов, и отрицательными, когда число электронов больше числа протон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етарная модель атома была предложена в 1911 г английским физиком Э. Резерфор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 предположению Резерфорда электроны в атоме вращаются вокруг ядра подобно тому, как планеты солнечной системы вращаются вокруг Солнца, поэтому такая модель была названа планетар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ктрон был открыт Томсоном в 1897г, протон – Резерфордом в 1911 , нейтрон – Чедвиком в 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улаты 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постулат: Атом и всякая атомная система может находиться в избранных состояниях, в которых она не излучает. Такие состояния называются стационар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постулат: При переходе атома из состояния с более высокой энергией в состояние с более низкой энергий, атом испускает квант света с частотой, равной разности энергий этих состояний, делённая на постоянную пла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вантование момента импу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ия стационарных состояний атома водорода по теории Б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диус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ой боровской орбиты электрона в атоме водор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371760" y="1752480"/>
            <a:ext cx="1886040" cy="40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3200400" y="3429000"/>
                <a:ext cx="201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3581280" y="5240160"/>
                <a:ext cx="15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числить радиус первой орбиты атома водорода (боровский радиус) и скорость электрона на этой орби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гласно теории Бора, радиус электронной орбиты и скорость электрона на ней связаны равен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 как в задаче требуется определить величины, относящиеся к первой орбите, то главное квантовое число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1 и указанное равенство приобрета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10492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733920" y="5486400"/>
            <a:ext cx="148896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определения двух неизвестных величин (скорости и радиуса) необходимо ещё одно уравнение. В качестве второго уравнения воспользуемся уравнением движения электрона. Согласно теории Бора, электрон вращается вокруг ядра. При этом сила взаимодействия между электрическими зарядами ядра и электрона сообщает электрону центростремительное ускор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сновании второго закона Ньютона можем за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40984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124080" y="4876920"/>
            <a:ext cx="2376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20:02:40Z</dcterms:modified>
  <cp:revision>11</cp:revision>
  <dc:subject/>
  <dc:title>Слайд 1</dc:title>
</cp:coreProperties>
</file>